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179-6D6D-456F-BEE6-8F86DDDD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D95-F6B4-4107-BED5-A16C54A8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E4D-A1E7-476F-9F88-BA284040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7C4-DCD4-435C-B589-5639D94C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48E-EA30-44FD-8FD9-AA243952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4B0-92D9-4487-91B0-438E553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D54-630A-45F0-9073-54CAF7D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77C-4B7F-4FC2-8AF1-95D134F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C73-1EB5-46EB-8228-3B4AE5C6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7B9-8364-4282-B971-AE5026A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4E9-290E-4EEC-8457-F926A92E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11A-AA72-4E86-B6E3-B384984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D26D-74F3-4D55-A333-E1FD7BDD1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8 of 9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Clarification. 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Few Words on Bilingual Program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bilingual-framework.gif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489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c Change: Moving Away from the NL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11426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ve Language Literacy – a locally designed bilingual instructional model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eracy instruction is done in the student’s home language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c00000"/>
                </a:solidFill>
                <a:latin typeface="Calibri"/>
              </a:rPr>
              <a:t>(= 90 to 120 minutes a day in Home Language)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,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ajority of other school subjects are taught in English </a:t>
            </a:r>
            <a:r>
              <a:rPr b="1" i="1" lang="en-US" sz="1200" spc="-1" strike="noStrike">
                <a:solidFill>
                  <a:srgbClr val="c00000"/>
                </a:solidFill>
                <a:latin typeface="Calibri"/>
              </a:rPr>
              <a:t>(=the balance – math, science,  social studies, specials – in 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 a lot of reasons … some of which are covered in our brochure, some of which are based on SLA principles, some of which are based on expectation vs. performance consider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70988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lingual-framework.gif"/>
          <p:cNvPicPr/>
          <p:nvPr/>
        </p:nvPicPr>
        <p:blipFill>
          <a:blip r:embed="rId1"/>
          <a:stretch/>
        </p:blipFill>
        <p:spPr>
          <a:xfrm>
            <a:off x="152280" y="152280"/>
            <a:ext cx="882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ilingual-framework.gif"/>
          <p:cNvPicPr/>
          <p:nvPr/>
        </p:nvPicPr>
        <p:blipFill>
          <a:blip r:embed="rId1"/>
          <a:stretch/>
        </p:blipFill>
        <p:spPr>
          <a:xfrm>
            <a:off x="304920" y="1676520"/>
            <a:ext cx="40496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Rounded Rectangular Callout 2"/>
          <p:cNvSpPr/>
          <p:nvPr/>
        </p:nvSpPr>
        <p:spPr>
          <a:xfrm>
            <a:off x="4572000" y="152280"/>
            <a:ext cx="3962520" cy="1219320"/>
          </a:xfrm>
          <a:prstGeom prst="wedgeRoundRectCallout">
            <a:avLst>
              <a:gd name="adj1" fmla="val -87189"/>
              <a:gd name="adj2" fmla="val 137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eritage 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Least disruption to current staffing patter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ular Callout 3"/>
          <p:cNvSpPr/>
          <p:nvPr/>
        </p:nvSpPr>
        <p:spPr>
          <a:xfrm>
            <a:off x="4800600" y="1828800"/>
            <a:ext cx="3886200" cy="2057400"/>
          </a:xfrm>
          <a:prstGeom prst="wedgeRoundRectCallout">
            <a:avLst>
              <a:gd name="adj1" fmla="val -93444"/>
              <a:gd name="adj2" fmla="val 621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rly Exit Transitional Dual Langu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trong Start – Early Success –  High Clear Expectations from Day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If you’re worried that English Learners are falling behind from Day 1 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 a huge amount of support in the professional litera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ular Callout 4"/>
          <p:cNvSpPr/>
          <p:nvPr/>
        </p:nvSpPr>
        <p:spPr>
          <a:xfrm>
            <a:off x="4952880" y="4495680"/>
            <a:ext cx="4038840" cy="1752840"/>
          </a:xfrm>
          <a:prstGeom prst="wedgeRoundRectCallout">
            <a:avLst>
              <a:gd name="adj1" fmla="val -93083"/>
              <a:gd name="adj2" fmla="val -9868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te Exit Developmental Dual Langu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Full Bilingualism &amp; Bilite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igh Challenge, High Risks, High Re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ular Callout 5"/>
          <p:cNvSpPr/>
          <p:nvPr/>
        </p:nvSpPr>
        <p:spPr>
          <a:xfrm>
            <a:off x="457200" y="4952880"/>
            <a:ext cx="4038480" cy="1752840"/>
          </a:xfrm>
          <a:prstGeom prst="wedgeRoundRectCallout">
            <a:avLst>
              <a:gd name="adj1" fmla="val -31180"/>
              <a:gd name="adj2" fmla="val -90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wo-Way Dual 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High Presti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lingual Department won’t support adding TWDL sites until we’re seeing really strong success in the three schools where the model is in pl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3928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essment &amp; Bilingual Ed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w &amp; Later Contr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514680" cy="2465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114800" y="1676520"/>
            <a:ext cx="4724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… we’ll provide strong learning in and through the Home Langua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ater … students will catch up in Englis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the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entury, you can’t run a BILINGUAL ED program without providing evidence for the NOW pa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t means strong assessments in the language of instruction to prove that grade-level learning is being achiev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you’re not committed to making this happen, you simply can not do a bilingual progra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ll the Multilingual Department help you with this?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yb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… but that doesn’t change your obligation to assess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9:28:40Z</dcterms:created>
  <dc:creator>John J. Wolfe</dc:creator>
  <dc:description/>
  <dc:language>en-US</dc:language>
  <cp:lastModifiedBy>John J. Wolfe</cp:lastModifiedBy>
  <dcterms:modified xsi:type="dcterms:W3CDTF">2012-01-25T19:29:51Z</dcterms:modified>
  <cp:revision>1</cp:revision>
  <dc:subject/>
  <dc:title>Key Point 8 of 9 Clarification.  A Few Words on Bilingual Programming</dc:title>
</cp:coreProperties>
</file>